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4C15-7660-4C1E-812A-FD3D1A64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E662-0EB5-4266-9D60-ED5C8668B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644-488A-48CC-9CF3-8434ABB0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F61-7A42-4F66-BF8B-D50E82CE1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167B-C045-4800-8524-A55173A37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AA15-C9CF-4A5C-99CB-99B0169B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0713-6692-48CA-9315-D299E469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60CC-9C12-4E9E-9084-7616F427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C8834-3DF7-4D0C-AEE6-4FDDF470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E39F7-9199-460C-A0BC-E78A0D0F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B502-2F18-495B-915D-D5BEAA2C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136-D772-4115-A257-D63A6AE0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3888-E6B1-47DE-BD06-9AD56729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9DAD-3AC4-41C3-B29E-57098D3FF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E0F9-7BB3-491B-8019-0B5CB770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324B-C2A1-4328-81B8-E5303B71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1CC75-7C96-4EDA-BCC0-45873F62E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AF3E-49EA-4748-91A7-DBBA694B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3602-4C0C-41A9-8874-73D9245C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D2E-2A57-43C3-A0D2-F2778E57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3BAA-E5E3-4D8E-BEA9-CADF5C0E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4F6B-BCF4-4BDB-A135-25A25FF1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D85-0CC0-472A-AC60-6F71E9E3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00E8-5E9B-49B6-8A91-F1AD46C71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572B-7025-48A1-8BEC-9D3E47B57BD3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86A7-EA1A-412E-B473-C3443EDCCC94}" type="slidenum">
              <a:rPr b="1" lang="en-US" sz="2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armup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were three negative effects of Europe colonizing Afric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oad to Freedom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ghting for Europe WW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rim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wame Nkrumah – Ghana 195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095880" y="152280"/>
            <a:ext cx="2857680" cy="4305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6553080" y="4876920"/>
            <a:ext cx="15494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dependen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60 – Most African Territories had thrown off British Ru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hnic/Religious Figh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uge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8120" y="3886200"/>
            <a:ext cx="2447640" cy="2724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257800" y="2971800"/>
            <a:ext cx="38862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PARTHIED IN SOUTH AFRIC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artnes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meland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 – Nelson Mande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chbishop Desmond Tut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2851200" cy="31244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0160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 Section 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lture and Lifest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ul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ly Grow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Better San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 Better Medical C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vercrow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343400" y="2438280"/>
            <a:ext cx="44956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 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s L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809880" y="457200"/>
            <a:ext cx="5058000" cy="61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ealth Ca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nutr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ni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quitoes and Tsetse F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 Expectanc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724280" y="838080"/>
          <a:ext cx="3770280" cy="5790960"/>
        </p:xfrm>
        <a:graphic>
          <a:graphicData uri="http://schemas.openxmlformats.org/drawingml/2006/table">
            <a:tbl>
              <a:tblPr/>
              <a:tblGrid>
                <a:gridCol w="942840"/>
                <a:gridCol w="943200"/>
                <a:gridCol w="941040"/>
                <a:gridCol w="943200"/>
              </a:tblGrid>
              <a:tr h="3045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UNTRY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G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United State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Angol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Botswan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had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ote D'Ivoir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Central African Republic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52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Zambia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760640" y="2361960"/>
            <a:ext cx="3770280" cy="1785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62120" y="4572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r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Stat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tes of Pa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ryt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i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67080" y="3809880"/>
            <a:ext cx="33339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ural vs. Urb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ral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sistence f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un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 Lif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 and manufacturing jo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standard of liv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495680" cy="291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562720" y="4629240"/>
            <a:ext cx="3352680" cy="22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frican Family Lif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ed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clear Fami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838080"/>
            <a:ext cx="899172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hapter 8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and Culture of Africa South of the Saha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arly Histo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nter-gather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ngd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ush(Suda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ld, Ivory, I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xum(Ethiopi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de, Christi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eat Zimbab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lver, Gold, Iv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724280" y="914400"/>
            <a:ext cx="3543480" cy="2421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95680" y="3548160"/>
            <a:ext cx="45086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ding Empi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ha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xed Tr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sa Musa, Timbu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ngha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000760" y="3705120"/>
            <a:ext cx="414324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lave Tra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s enslaved Afric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abs enslaved Africans – 800 A.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ans Arr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uns, Dis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Slaves to American Colon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8800" y="4724280"/>
            <a:ext cx="57150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762120"/>
            <a:ext cx="5314680" cy="53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uropean Rule / Coloniz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05120" y="2195640"/>
            <a:ext cx="54482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uropean Rul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Weapons = Pow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de Africans mine Gold, Diamonds, Rubber and other Natural Resour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10440" y="4000680"/>
            <a:ext cx="1933560" cy="2857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943600" y="304920"/>
            <a:ext cx="281952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8:06:07Z</dcterms:created>
  <dc:creator> John Doe</dc:creator>
  <dc:description/>
  <dc:language>en-US</dc:language>
  <cp:lastModifiedBy> John Doe</cp:lastModifiedBy>
  <dcterms:modified xsi:type="dcterms:W3CDTF">2009-09-09T15:49:54Z</dcterms:modified>
  <cp:revision>8</cp:revision>
  <dc:subject/>
  <dc:title>Chapter 8 </dc:title>
</cp:coreProperties>
</file>